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997700" cy="9244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72522-69BC-433B-AFD8-30BC20355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54FE8-C0F5-4A09-B958-9F916259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3ED43-207E-46BD-9FF3-A71B2C97A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88679-00A5-4DF9-94CB-CBFD5A4FF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67E1-EE02-4332-950C-8EABE3A82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35A6-C3CA-4374-B81E-6EE51FB1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BFCA-A198-43AA-9C79-46293FD6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77A8-8DED-4E50-918E-64FFF3E5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4B63-2769-403D-A29E-B5806CC6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4B02-7286-454D-9E18-7164FD66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06F6-F690-41F1-ACA4-788C66C1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FAD83-A951-4283-A5FF-6DA6164C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209B-5276-47CC-8C30-E4ECACBB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41BA1-7CCE-4F0E-B3AC-64F66137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0182-F17B-44B9-AE85-28654E93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5732-4508-4F89-8408-F1BDDF6C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60FF-C20E-4C52-AD2B-0D6E74AFE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71DBD-DD5D-4391-A3E1-F7A1EC77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D9EF6-F78F-4EC5-8798-49A2BF0A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6F28A-9982-4B54-BBFE-D8F7B554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A6969-0BB6-479A-BDC3-09F1A6D0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932B5-595B-48C3-944A-BA680354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74746-224D-439A-B621-A569022F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0685A-ADBB-432F-8F86-FF597CA0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B4AD-94D1-4290-8011-9E25BAF787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370D-E920-4D07-8C0F-6C409B1D4A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120" y="533520"/>
            <a:ext cx="8001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380880"/>
            <a:ext cx="77724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veloping a Plan                     to Transition to Medicare                   Value-Based Purchasing for Physician &amp; Other Professional Services (PVBP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35080" y="4216320"/>
            <a:ext cx="6808680" cy="16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Listening Session on Issues Pap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December 9,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089CF-31AE-4C8A-9784-181389F1F40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5:39:28Z</dcterms:created>
  <dc:creator>Tinabeth Burton</dc:creator>
  <dc:description/>
  <dc:language>en-US</dc:language>
  <cp:lastModifiedBy>CMS</cp:lastModifiedBy>
  <dcterms:modified xsi:type="dcterms:W3CDTF">2008-12-08T15:35:07Z</dcterms:modified>
  <cp:revision>4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97213038</vt:r8>
  </property>
  <property fmtid="{D5CDD505-2E9C-101B-9397-08002B2CF9AE}" pid="3" name="_AuthorEmail">
    <vt:lpwstr>Julianne.Howell@cms.hhs.gov</vt:lpwstr>
  </property>
  <property fmtid="{D5CDD505-2E9C-101B-9397-08002B2CF9AE}" pid="4" name="_AuthorEmailDisplayName">
    <vt:lpwstr>Howell, Julianne R. (CMS/CTR)</vt:lpwstr>
  </property>
  <property fmtid="{D5CDD505-2E9C-101B-9397-08002B2CF9AE}" pid="5" name="_EmailSubject">
    <vt:lpwstr>PVBP Slides renamed</vt:lpwstr>
  </property>
  <property fmtid="{D5CDD505-2E9C-101B-9397-08002B2CF9AE}" pid="6" name="_NewReviewCycle">
    <vt:lpwstr/>
  </property>
</Properties>
</file>